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031C-21B0-4A07-B583-80D7831C5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64AA-6139-418B-9B6D-F6CE4C36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D6D2-DB9D-47D3-A9E8-4FFF95D0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EB86-5DF5-4CF1-98FE-83B6368D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F891-3B8B-4F16-9343-9CCA86C1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CBFE-785E-41B9-9926-FC47B975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69EB-1696-4164-8D48-F9D5D5B6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04CA-9CC9-4EC2-86FA-83EC5B64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EAB8-2560-42AE-850D-EB04A425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93A2-A98A-4147-8A4F-6C6ACA83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81F9-FAD1-4681-8E8E-EA55278F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ABF4-62C6-4552-889C-2B9ECCF4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B355-8556-4295-B417-6561445E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6B3F-123A-4F7E-835F-BB5AC0C2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0F9B-0352-4199-8BE5-D76BD391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CA00-3A59-4648-BD81-EBC1CD2F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9CCA-421E-4B63-83DE-AEB132D5F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AD02-70BA-4979-8E85-95127A5F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27EC-3FCF-44DC-A995-F67B5F6D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4FD8-B72B-475B-83E5-948B7F26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FD10-422A-4BB4-9510-253FFFB2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6318-FCB7-45F3-A314-AEF44FA9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661E-7959-449C-847C-B6622C15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25F6-95CC-4B54-A511-2E38A84A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2559-A89E-4CED-B112-BADB546DD0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E3F8-6362-40C6-A962-7F76DEA238B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27636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Живая оболочка Земли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4648320"/>
            <a:ext cx="7772400" cy="1904760"/>
          </a:xfrm>
          <a:prstGeom prst="rect">
            <a:avLst/>
          </a:prstGeom>
          <a:noFill/>
          <a:ln w="76320">
            <a:solidFill>
              <a:srgbClr val="97a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Составила: Маркова Лайма Валдис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учитель химии и биологии Усть-Язьвинской МСОШ Красновишерского района Перм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Оформила в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ower Point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Добрынина Людмила Викторовна,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учитель биологии МОУ Краснооктябрьская СОШ Каргапольского района Курганской области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4267080" cy="2666880"/>
          </a:xfrm>
          <a:prstGeom prst="rect">
            <a:avLst/>
          </a:prstGeom>
          <a:ln w="5724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229600" cy="711000"/>
          </a:xfrm>
          <a:prstGeom prst="rect">
            <a:avLst/>
          </a:prstGeom>
          <a:solidFill>
            <a:srgbClr val="33cc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Живая оболочка Земл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267440" cy="434340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410080" y="4038480"/>
            <a:ext cx="3505320" cy="240192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410080" y="1828800"/>
            <a:ext cx="35053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 презентации использованы иллюстрации из: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азовательный комплекс «Биология, 10 кл.» - ©ЗАО «1С», 2009; ©OOО «1С-Паблишинг», 2009; © Издательский центр «Вентана-Граф»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кст учебника с иллюстрациями,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иблиотека электронных наглядных пособий «Биология. 6-9 классы» - Кирилл и Мефодий,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льшая энциклопедия Кирилла и Мефодия, 20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27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Количество живого вещества той или иной биологической системы, приходящееся на единицу площади или объем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3352680"/>
            <a:ext cx="1905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  /  S =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705720" y="5791320"/>
            <a:ext cx="19047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  /  V  = 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3208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. Ученый, создавший учение о биосфер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874600" y="1669320"/>
            <a:ext cx="339660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863–1945 г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Вернадский Владимир Иванович"/>
          <p:cNvPicPr/>
          <p:nvPr/>
        </p:nvPicPr>
        <p:blipFill>
          <a:blip r:embed="rId1"/>
          <a:stretch/>
        </p:blipFill>
        <p:spPr>
          <a:xfrm>
            <a:off x="6934320" y="4267080"/>
            <a:ext cx="1952640" cy="2400480"/>
          </a:xfrm>
          <a:prstGeom prst="rect">
            <a:avLst/>
          </a:prstGeom>
          <a:ln w="5724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010280" y="2590920"/>
            <a:ext cx="1905120" cy="1457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0" y="4495680"/>
            <a:ext cx="2057400" cy="185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3208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.Вещество, образованное совокупностью организмов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16765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173988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4.Живые организмы, составляющие основную часть биомассы планеты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17480"/>
            <a:ext cx="8229600" cy="7113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5.Газовая оболочка Земли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39064" t="17709" r="19532" b="7294"/>
          <a:stretch/>
        </p:blipFill>
        <p:spPr>
          <a:xfrm>
            <a:off x="7010280" y="4343400"/>
            <a:ext cx="18511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17480"/>
            <a:ext cx="8229600" cy="7113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6. Элемент - органоге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10280" y="4648320"/>
            <a:ext cx="1676520" cy="161604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sp>
        <p:nvSpPr>
          <p:cNvPr id="112" name=""/>
          <p:cNvSpPr txBox="1"/>
          <p:nvPr/>
        </p:nvSpPr>
        <p:spPr>
          <a:xfrm>
            <a:off x="6477120" y="2743200"/>
            <a:ext cx="1847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   O    C    H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 rot="19768200">
            <a:off x="228600" y="3809880"/>
            <a:ext cx="2438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   Na  S  P  Cl  F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6880"/>
            <a:ext cx="8229600" cy="131292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7. Движение веществ в природ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42640"/>
            <a:ext cx="8229600" cy="17492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.Важный компонент биосферы и один из необходимых факторов существования живых организмов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39064" t="17709" r="19532" b="7294"/>
          <a:stretch/>
        </p:blipFill>
        <p:spPr>
          <a:xfrm>
            <a:off x="7010280" y="4343400"/>
            <a:ext cx="18511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chitel</cp:lastModifiedBy>
  <dcterms:modified xsi:type="dcterms:W3CDTF">2011-03-05T15:30:54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